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-2-D110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7ED9-0839-4ECF-A1DC-72C8B305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336-4591-49A6-AB58-9F2AF482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7CE-7F3F-4B5B-AF22-4680C4FA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DDA-8CF7-424C-BD68-639F98FC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D4C-6DE5-44C0-9324-1575CD97C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A17-13C5-4831-AB31-2E26BD45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E8FA-1A77-4AD2-B9F4-B2FDC1DE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1BB-8E40-4124-A8E0-94634074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9606-8BC3-4A58-8E17-F3F4E966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F1F-BC5B-40FB-ACDB-D6BD7C9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8B3-DB04-415F-8D8E-DE5E835E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917-3D91-4E21-ADF1-955B4A2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CD11-5A7F-4E94-9FCB-54C513CE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B9A7-03C3-4A9E-882B-9A809CE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32C1-6A22-4D9E-A23D-0A97207D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6D7-9D4D-44B3-BCCF-CAAA32A7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B2E3-1F47-41F6-9748-10C85D6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F6B-670A-4EC2-8ACE-1A4CA293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FA5B-6611-42C6-A621-16CC48F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BB8-F6D0-4FF3-B204-0DE728B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6163-5146-4325-A902-F60E1B9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85DB-2156-4542-9B3A-E3B4FDD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89AC-C451-4864-9D4A-CFC31B9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0581-FB18-43DB-A762-51768FE5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D74-546C-4DDE-9221-E314D2BA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6DCB-44C2-4B81-99D7-382EA9B6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8586-1B66-4B56-A239-587C3627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BE80-1D10-4067-9F6E-CA5A9C3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1456-BCE8-4D20-BD62-D885277F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9668B-06DE-4707-8A91-F315986A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210-EBF3-435F-ADBC-8CFE804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25B4F-EFA9-4D7D-9578-82C6C3F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0EAE-E58C-4BCF-99F6-8278F73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B3CD-5E25-4127-A810-0D298724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81AE1-2435-45CA-953A-09437737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B490-CFC3-4CAF-AB25-545FF166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46B1-03F9-4F45-80CB-98B85677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BACD-8833-4E55-8B2A-CA7B4BB2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C67FD-AEC0-4D68-B35A-AB7FAF17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0DBE-DC5C-4C1F-9BF1-129E9D4C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57AB-71F9-456C-B3C9-B0AE3DD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F03-3D2D-4A32-85A5-8A682F9C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C987-E571-4DF8-BF4E-49B8FE03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7D60-1195-4E9D-9915-C43D00DC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14D92-89D6-44D1-BB6E-5E2DDDA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8112D-3E2C-4ADF-A670-6B6902B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51A1A-ADE7-40C9-AA51-42B513D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DEAB-62E4-4692-9AC0-98A17DF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20E5-D787-42F8-96CA-140DB14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089A0-E52E-45B7-A8CD-F4C3FA9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7F72-D41B-4760-8E1E-B03194ED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11FC8-5C91-4906-BAB0-A584BC60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C03-427E-4232-B7DA-46F24B21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033D-FE09-428C-9848-6EE7F10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5F3F-2B00-42BA-940F-ED7190D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76AD-9EDD-4A7C-BBF7-1E0DDE64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A4EF-8D8E-4D5A-A233-3D6F92B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A184D-B55C-400A-BD27-F1E1BC98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4486C-D255-4E70-AF16-B13423F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EA969-995D-4889-A8BE-2BD56A3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DB6A6-36E4-406E-8CC9-A51F648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6E3F-A870-46CA-B3BB-5844098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9C0D-8516-4180-BDC9-B3CEE727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AFC-BC52-4069-BD93-C70F6F0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22933-7720-4647-88B2-4C642B4C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2744-0FC0-476A-8FB6-9E5B8862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B891D-812C-442F-9156-66C08436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B237E-00E0-4ED5-A8D6-49B57E8C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53608-7ABD-4A42-B3BB-5155FE8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70063-D4BF-4C98-9B7F-2446180A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E83A6-B5FA-44E5-BD5C-C79E448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2830D-61CA-4F14-BFE1-54495306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7D5AB-E21B-4B8C-A8B7-E1F72032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44FFC-6E0B-4F31-8791-79EC74CE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C40-F745-4787-B244-2A5A270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6FEB-B947-4DDB-AD7C-65FC94C8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72B5-D83E-4BA5-895B-D63588DF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92187-F05F-42FA-8325-AC672EC2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AEB-39FA-4AD6-A783-D2228721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DD7-92B8-4169-B991-36D0927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D9E9-2F92-4E1A-89EA-A689424755C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6A8C-8420-44B5-A890-E736CC5C9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203FA5C6-11ED-48F2-8EC3-3F5A54F077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29BF-A646-4C60-A476-3E7D0D87B1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3F4-D20D-41D9-97B0-E64424555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ACD23C5C-65D3-477C-AD70-9446F42EEB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1FAD-0197-4CDF-B85E-BE59102629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560C-60B2-4CBC-8DBC-9999BF2B6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258DC208-504D-45FA-96F3-836FEE7328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1AFA1654-FCD0-497A-95E0-3645DFF9EB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A0E-39DA-4215-9AFE-DD05B1F962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483-D515-4FAB-AD12-5E71BA177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D5B2EB6B-A818-4473-9562-92293351C6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59E-2EDB-42A7-B0BF-EBE7F41166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EBFA-C9FB-4D0E-8500-BA2D9888E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0DBC8FDA-6D91-46F2-8FDF-C7E04A5A41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61F9-BA3B-48CA-9BA1-289F9F2463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C147-D175-4920-939C-BE80B4EEB6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"/>
          <p:cNvPicPr/>
          <p:nvPr/>
        </p:nvPicPr>
        <p:blipFill>
          <a:blip r:embed="rId2"/>
          <a:stretch/>
        </p:blipFill>
        <p:spPr>
          <a:xfrm>
            <a:off x="2743200" y="1940040"/>
            <a:ext cx="5634000" cy="4227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48280" y="2336760"/>
            <a:ext cx="174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 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101520" y="100080"/>
            <a:ext cx="8940960" cy="183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 Black"/>
              </a:rPr>
              <a:t>Filling &amp; Placing a Request, DPL, Mobilizing and Travel/Travel Procedur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7"/>
          <p:cNvSpPr/>
          <p:nvPr/>
        </p:nvSpPr>
        <p:spPr>
          <a:xfrm>
            <a:off x="839880" y="1397160"/>
            <a:ext cx="7462800" cy="57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monstrate filling and placing requ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Dispatch Priority Lists (DPL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various methods of mobilizing a resource to an inci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government travel proced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ravel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-1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1"/>
          <p:cNvSpPr/>
          <p:nvPr/>
        </p:nvSpPr>
        <p:spPr>
          <a:xfrm>
            <a:off x="0" y="-95400"/>
            <a:ext cx="9144000" cy="16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Arial Black"/>
              </a:rPr>
              <a:t>Content</a:t>
            </a:r>
            <a:r>
              <a:rPr b="0" lang="en-US" sz="4800" spc="-1" strike="noStrike">
                <a:solidFill>
                  <a:srgbClr val="6699ff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6699ff"/>
                </a:solidFill>
                <a:latin typeface="Arial Black"/>
              </a:rPr>
              <a:t>Selectors, Action Tiles and Main Work Are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7966080" y="655164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5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0" y="1122480"/>
            <a:ext cx="9144000" cy="50590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Dispatch Priority Li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-3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2"/>
          <a:srcRect l="8017" t="13229" r="6213" b="5411"/>
          <a:stretch/>
        </p:blipFill>
        <p:spPr>
          <a:xfrm>
            <a:off x="1017720" y="1560600"/>
            <a:ext cx="6505560" cy="47908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IROC Travel Action Ta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-4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Graphical user interface, application&#10;&#10;Description automatically generated"/>
          <p:cNvPicPr/>
          <p:nvPr/>
        </p:nvPicPr>
        <p:blipFill>
          <a:blip r:embed="rId2"/>
          <a:stretch/>
        </p:blipFill>
        <p:spPr>
          <a:xfrm>
            <a:off x="0" y="1587600"/>
            <a:ext cx="914400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IROC Travel Action Ta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-5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Graphical user interface, text, application&#10;&#10;Description automatically generated"/>
          <p:cNvPicPr/>
          <p:nvPr/>
        </p:nvPicPr>
        <p:blipFill>
          <a:blip r:embed="rId2"/>
          <a:stretch/>
        </p:blipFill>
        <p:spPr>
          <a:xfrm>
            <a:off x="119160" y="1620720"/>
            <a:ext cx="5789520" cy="21258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1" descr="Graphical user interface, text, application, email&#10;&#10;Description automatically generated"/>
          <p:cNvPicPr/>
          <p:nvPr/>
        </p:nvPicPr>
        <p:blipFill>
          <a:blip r:embed="rId3"/>
          <a:stretch/>
        </p:blipFill>
        <p:spPr>
          <a:xfrm>
            <a:off x="3095640" y="2862360"/>
            <a:ext cx="5329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7"/>
          <p:cNvSpPr/>
          <p:nvPr/>
        </p:nvSpPr>
        <p:spPr>
          <a:xfrm>
            <a:off x="839880" y="1397160"/>
            <a:ext cx="7462800" cy="57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monstrate filling and placing requ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Dispatch Priority Lists (DPL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cribe the various methods of mobilizing a resource to an inci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government travel proced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ravel Scre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0" y="6499080"/>
            <a:ext cx="7988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-110 Unit 5:Filling/Placing Request, DPL, Mob., &amp; Travel/Travel Proced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-6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21:12:19Z</dcterms:created>
  <dc:creator>isather</dc:creator>
  <dc:description/>
  <dc:language>en-US</dc:language>
  <cp:lastModifiedBy>Sunderland, Amber</cp:lastModifiedBy>
  <dcterms:modified xsi:type="dcterms:W3CDTF">2021-04-28T01:18:04Z</dcterms:modified>
  <cp:revision>129</cp:revision>
  <dc:subject/>
  <dc:title>Unit 1: Expanded Dispatch Organization</dc:title>
</cp:coreProperties>
</file>